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F7B-CB2E-4235-8C8A-33DEDD2C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EF0-D5B1-4E9E-BF3D-D21977C3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C82-3865-45B5-B5C6-BAEE2B0E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6F0-DAE7-4B2D-81A8-8A2D91D8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EF94-5F34-4282-909D-920E63B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805-839D-4493-AA96-FDE4008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A49E-5929-4A4A-A7F6-DC2CEA4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F229-AA5E-41C5-9395-F5A51F33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707-60DF-4CD9-AC2B-6B575261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B14-347C-4FAD-B22F-0A4EB99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F86-7680-498A-8704-3DEC02A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6E3-6BD2-4DB8-BDCC-110C5DB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3031-96F3-4C7B-9C10-F11A946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5FF-1673-4B52-BDBB-EDCDDCD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A1F-4A8F-4FEC-8A63-61A5439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970-9311-409E-8D8E-CFA300F6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E31-5821-47CF-92FC-8F17EB78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4753-245E-45E8-8FD5-0872E57F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B520-E243-40DD-99AA-2046B80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319F-67EC-4126-9DCD-BA11284F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0016-36D5-450B-9D6C-09712F0D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A4FB-CC76-47DB-AAD9-A6957AEB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173-1537-43D0-B4BE-88704B54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C27F-6F57-4EC6-AD57-20ABBB16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590B-0223-44EA-BC46-DE09AC6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FD92-C43E-4BA9-BA84-1DACE87A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23E9-BCEA-41EE-AEF2-A2324E5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225B-A784-4F24-AC01-6E63CD8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A819-66BC-415C-9505-DBB501FE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3165-F11B-4521-A7D5-CFDCADB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4AD3-A3ED-4093-9649-1849A4B8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8E11-7F81-43AE-81F3-87EE99E7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D7CF-E8A5-4C9E-BE93-CC80D06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323-B6F6-428E-A3EA-F1160CE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A04E-B631-4A14-B3B7-12E811BA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7FF2-C00C-4876-A72C-E1B6D4F7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460F-EFE9-479A-98A6-BD63983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D416-E448-4124-A8B7-46EE434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FD18-2A4B-49A0-A866-944D75A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3872-5F49-4AAC-97EE-6F42956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7218-CCC4-489B-917D-E245833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EA76-8CB0-4BE8-BB54-0BD3983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6C8E-B5A7-4F3D-8AAF-EC0DCBA7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E6BD-1D48-48AC-97B9-1933BAB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B24-3126-494F-9433-53EDFAB0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B673-CB81-4050-8D65-C9D916E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04CCE-4499-4795-9171-3668E0BE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9944-4F0A-4EAA-B4F8-649A8FCB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190D-DC53-4ABF-B33E-09D4C27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A754-2F8E-4A21-AD29-0CD7274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7C0FA-6F05-4AEE-B41A-2452168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B1EE-DC44-4221-B942-F995BFEE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0EF4-3B74-4BAF-AAB6-DBE36B3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39072-2BD0-4A26-8CF3-2F18FA8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958D-5C8B-4689-BBA7-216E54B2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EDA-A53E-406A-8862-D4B822A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49AB-3FCC-4441-9FC4-6D338C77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F609-71FA-4439-BC4F-163FFD5E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00DB-DA28-437E-B676-0B3F572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9C75-F33E-4B31-89BD-F990DB72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EFBB-9350-4EF7-A7BE-1A72707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5DEC-3462-4260-A087-57B1FB6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CFD05-FCB8-44AF-B2B1-8CC03D34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B315-CDA0-430F-9435-56808036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CA47-93E6-4172-A462-E71EF7D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01D6-3171-48E4-80D1-F6B2F28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F59-C4D5-4DED-9202-FF80F92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06D1E-A063-4149-81C3-C07F3AF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C62E-60C9-44D2-891E-E21E4EC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B059-4205-4C8E-BF18-55191EE4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10DC-BB7A-4F42-859F-4A1B233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40CF-179F-4AE4-882E-AF087226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A547-7072-46C0-8FE7-6DCF2A20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4FEE-3414-4754-8AAF-F529AD9A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D7EA-A0A6-4515-AFEC-F667DC5F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BEAF-F12C-451B-92D1-1DCE11A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837E-3DD0-42C5-B388-3C62D06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5AE-540F-496F-9585-78097A9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ABCD-39DC-4C62-9C13-72E9D09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027BA-2723-4537-B456-35F18C8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68C60-44C0-4291-8D21-B4D09D1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8C71-B357-4BD4-95B7-0F13F804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C279B-CFD3-42C9-943C-8AE42EC8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2A1-EAD9-48D4-B900-D74A1B5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47B-3FC7-4708-A492-53F405315C88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DFB-DCC6-4A81-8F7D-C7731F4E165C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A277-F178-4CCC-B732-7336907D6E64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973-4B26-4D9E-9DFD-2A429F08FA24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BD9-79AC-4A73-8473-5D66F776B058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636-9077-4D29-9209-1564C9C38EAF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710-73AD-407E-9B5D-1049F6A563AE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rdenia.ru/pages/sady036.htm" TargetMode="External"/><Relationship Id="rId2" Type="http://schemas.openxmlformats.org/officeDocument/2006/relationships/hyperlink" Target="http://www.gardenia.ru/pages/sady036.htm" TargetMode="External"/><Relationship Id="rId3" Type="http://schemas.openxmlformats.org/officeDocument/2006/relationships/hyperlink" Target="http://leit.ru/modules.php?name=Pages&amp;pa=list_pages_categories&amp;cid=4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иды японского сада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3517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Автор: Сидоров 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10 «А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Ресурс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История искусств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Стилистик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Японский сад. Стать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«МХК» 10 класс по ред.      Л.Г. Емохоно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49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488b"/>
                </a:solidFill>
                <a:latin typeface="Corbel"/>
              </a:rPr>
              <a:t>Цель работы: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ровести исследование по истории японского сада и выяснить какие виды японского сада существуют и в чем их особенность.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8218800" cy="48466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1258920" y="765000"/>
            <a:ext cx="74167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иды японского с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97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488b"/>
                </a:solidFill>
                <a:latin typeface="Corbel"/>
              </a:rPr>
              <a:t>Райский сад</a:t>
            </a:r>
            <a:endParaRPr b="0" lang="en-US" sz="40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4" name="Рисунок 4" descr="070720_01.jpg"/>
          <p:cNvPicPr/>
          <p:nvPr/>
        </p:nvPicPr>
        <p:blipFill>
          <a:blip r:embed="rId1"/>
          <a:stretch/>
        </p:blipFill>
        <p:spPr>
          <a:xfrm>
            <a:off x="4133880" y="3279600"/>
            <a:ext cx="4510080" cy="3389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84360" y="907920"/>
            <a:ext cx="8208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Первые японские сады, как особый вид искусства, появились в эпоху Хэйан. Это был период формирования первого чисто японского стиля садов – стиля Дзёдо, или природного пейзажа (Дзёдо – «рай, чистая земля, совершенство»). В основном это были дворцовые и усадебные сады, которые в своей основе были светскими, но при этом также сохраняли дух религиозно-философского отношения к природе, а именно идеи культа Будды Амиды. Главной особенностью этого сада было то, что создаваемый в саду пейзаж обязательно должен был быть копией какого-то конкретного природного пейза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1332000" y="537372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Храм Феникса (1052) в ансамбле Бёдоин в Уд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ейзажный сад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8" name="Рисунок 3" descr="7f5BUp2Y.jpg"/>
          <p:cNvPicPr/>
          <p:nvPr/>
        </p:nvPicPr>
        <p:blipFill>
          <a:blip r:embed="rId1"/>
          <a:stretch/>
        </p:blipFill>
        <p:spPr>
          <a:xfrm>
            <a:off x="1109520" y="3786120"/>
            <a:ext cx="3986280" cy="268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042920" y="105228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В ХIV–ХVI веках садово-парковое искусство Японии достигает наивысшего расцвета. К этому времени определились каноны создания японских садов. Сложился и основной стиль японского сада – пейзажный. Заимствованный из Китая, он был доведён японцами до филигранного совершенства на основе национальных традиций и самобыт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529272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Пейзажный сад Коракуэн префектуры Ока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Философски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Философские типы садов (дзен) создавались в целях медитации при буддийских храмах. К таким садам относятся: сад камней и сад мхов. При их создании используются только камни, гравий и мох. Каждая деталь такого сада способствует, по буддийскому учению дзен, обретению «пустого сердца». Обретение «пустого сердца» _x001f_- так в эстетике дзен обозначается внезапное «пробуждение» сознания, достижение просветления в текущей жизни, чувство слияния с великой Пустотой, которая олицетворяет высшую природу Будд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42920" y="260280"/>
            <a:ext cx="7850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7375e"/>
                </a:solidFill>
                <a:latin typeface="Corbel"/>
              </a:rPr>
              <a:t>Сад храма Рёандзи («храм Умиротворённого дракона») в Киото - вершина японского искусства садов камн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Рисунок 3" descr="kyoto_5.jpg"/>
          <p:cNvPicPr/>
          <p:nvPr/>
        </p:nvPicPr>
        <p:blipFill>
          <a:blip r:embed="rId1"/>
          <a:stretch/>
        </p:blipFill>
        <p:spPr>
          <a:xfrm>
            <a:off x="1901880" y="1768320"/>
            <a:ext cx="59864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Чайны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Дзэнская культура создала ещё одну замечательную разновидность японского сада – сад чайной церемонии . Он был новым не по форме, но по его функциональному назначению. Сад, ведущий ко входу в чайный домик, выступает важным компонентом в этой церемонии, помогая участникам правильно настроиться на предстоящее действо. Эстетика сада целиком соотносится с идеалами Чайной церемонии: простота, скромность, неброское очарование, духовное единение всех участников церемо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0920" y="1052640"/>
            <a:ext cx="82515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Исследовав историю зарождения и развития японского сада мы выделили 4 вида сада: райский сад, являющийся первым видом искусства японского сада, пейзажный  сад, продолживший традиции райского сада, философский сад, приобретший необычный вид  и глубокое религиозно-философское наполнение, а также чайный сад, гармонично сочетающий в себе пейзажный стиль и философию буддизма. Каждый из видов сада по своему оригинален и предполагает достижение определенной цели: постижение мира, получения наслаждения, созерцание прекрасного. На основании изученного нами материала можно сделать следующий вывод. Садово-парковое искусство Японии, более чем какое-либо другое, выражает своеобразное идейное отношение японской нации к природе. Это отношение своими корнями уходит в начало национальной японской религии – синтоизм, начиная по-новому звучать с приходом буддизма и</a:t>
            </a:r>
            <a:r>
              <a:rPr b="0" lang="en-US" sz="2000" spc="-1" strike="noStrike">
                <a:solidFill>
                  <a:srgbClr val="17375e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дзен-буддизма. Каждая грань этой философии  и религии находит отражение в саде, порождая на свет новые его виды, которые тут же становятся тонким искусством и предметом восхищения многи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26:17Z</dcterms:created>
  <dc:creator>DNA7 X64</dc:creator>
  <dc:description/>
  <dc:language>en-US</dc:language>
  <cp:lastModifiedBy>DNA7 X64</cp:lastModifiedBy>
  <dcterms:modified xsi:type="dcterms:W3CDTF">2011-04-11T22:40:47Z</dcterms:modified>
  <cp:revision>41</cp:revision>
  <dc:subject/>
  <dc:title>Слайд 1</dc:title>
</cp:coreProperties>
</file>